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E3F-42FF-47B2-A64E-76C511E6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D7A-535B-4C96-AF7D-06B1FB6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723-98E6-41F9-99B3-C540DB66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F37-63A4-4904-B1D9-3030557A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622-2524-4028-A830-49774695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7DA-8E45-4246-B8B1-771130E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650-6E28-4013-A369-987628A3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257-C613-43CA-956C-1A456DF7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713-7B36-47F7-8721-29166BA0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0D4-E71F-46AF-862F-2D516CB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BFB-573D-405D-AB6F-E9CA2FA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C35-4FCF-4B3D-BDFC-AC731DAE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B39-C31C-4A50-928E-ECAF54B59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of Extraneous Fac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? Why? How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Nancy D. Ba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How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Options – prior to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ptions – after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Desig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at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es it mean to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ake into account other known factors that may influence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4724280"/>
            <a:ext cx="5105520" cy="105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5105520" cy="148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003" t="2641" r="2003" b="10227"/>
          <a:stretch/>
        </p:blipFill>
        <p:spPr>
          <a:xfrm>
            <a:off x="1981080" y="1752480"/>
            <a:ext cx="51055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105520" cy="100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51055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4267080"/>
            <a:ext cx="5105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1080" y="4495680"/>
            <a:ext cx="51055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Analysi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ifi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981080" y="403848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18c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219320"/>
            <a:ext cx="51055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2003" t="40280" r="2003" b="48341"/>
          <a:stretch/>
        </p:blipFill>
        <p:spPr>
          <a:xfrm>
            <a:off x="1981080" y="3962520"/>
            <a:ext cx="5105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5105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y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variab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981080" y="4648320"/>
            <a:ext cx="51055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003" t="53561" r="2003" b="17975"/>
          <a:stretch/>
        </p:blipFill>
        <p:spPr>
          <a:xfrm>
            <a:off x="1981080" y="1752480"/>
            <a:ext cx="510552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510552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Nancy Barker</cp:lastModifiedBy>
  <dcterms:modified xsi:type="dcterms:W3CDTF">2004-02-17T15:20:51Z</dcterms:modified>
  <cp:revision>244</cp:revision>
  <dc:subject/>
  <dc:title>The Art in the State of the Art</dc:title>
</cp:coreProperties>
</file>